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875F-3C36-466F-BFD5-C03CD834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0268-C758-411C-AC9A-9FEF816F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88A3-067D-4544-8D9A-0F0B6132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765A-B702-4067-A231-A5B99655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0E35-EFA1-4ECD-BAD1-D1D73C4A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6A54-91E8-40CD-B539-FD8F3B89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E1C9-5384-4D4A-A6AF-4B6677B4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7684-785B-4487-9CEF-CE80D25A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2F8A-0759-4E96-8FE2-0139FEAC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33CF-5448-4B76-ABA2-7E37C4F0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4CCD-8CC0-482A-AF1D-C4BCFA8F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A16F-7782-42FB-89DD-FE8B57D2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CD4E-C7DF-426E-B195-7D336749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9425-42B6-4B62-9065-EA9AD7EF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E929-F2D7-4D0C-B4FD-6BF0C963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27CE-D83F-488C-83E0-A1907E02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7931-CC82-4971-9D73-294C849C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2284-7DB9-463A-BBB4-8A60EC5F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768B-7827-45D0-A53A-D944ACD1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B7A4-94F0-46CD-B962-992A4944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6DD5-AFA1-417D-9626-AAED7ADC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BC34-FD23-4ADF-934A-63135E8E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16F4-FCA9-497F-9AB0-76B4F5BC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F58D-F9E4-4E1D-A7B1-44BF3625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9CEB-6590-41EE-8F98-52991C8DE0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DF3C-98D3-4735-A191-D14A46C513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zakladatelsk&#225;%20smlouva.pdf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hled%20VH_nejd&#367;le&#382;it&#283;j&#353;&#237;%20ud&#225;losti.doc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Asociace průmyslových škol České republik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 historie Asociac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akladatelská listi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Ko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Valné hromady a nejdůležitější udál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Jak dál s Asociací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755640" y="4149720"/>
            <a:ext cx="7862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ZESHA - Unie školských asociací ČR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032360" cy="2244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881360" y="63360"/>
            <a:ext cx="538128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179280" y="620640"/>
          <a:ext cx="8964720" cy="59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96472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51:03Z</dcterms:created>
  <dc:creator>ponec</dc:creator>
  <dc:description/>
  <dc:language>en-US</dc:language>
  <cp:lastModifiedBy>sumbal</cp:lastModifiedBy>
  <dcterms:modified xsi:type="dcterms:W3CDTF">2010-10-05T09:41:44Z</dcterms:modified>
  <cp:revision>5</cp:revision>
  <dc:subject/>
  <dc:title>Asociace průmyslových škol České republiky</dc:title>
</cp:coreProperties>
</file>