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C3B08-EF61-43AC-8000-F78E870E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E338-E9BE-4845-A745-B502DABB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9963A-C5D1-407E-97BA-2791E54A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C58F1-EA4D-400C-8BBA-F40AF4C8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1502-5C28-4ED4-B655-0FA0806B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9AE2-61D0-4EC0-9EE8-E5AA6D8B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FCDC-3F24-437A-AD7D-00C34EC3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CAE8-4903-4DD4-9B4F-CD1CBBC1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37C3-73D6-4940-AFE5-D1224E7D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1A61-ABD6-40D8-9BA0-034C85D6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3F09-617D-412B-9FAB-D6B4BF53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98432-F7F5-4811-96F8-38D0F632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E77A-0814-4F60-8326-50506368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CECF-88F8-4DE6-88CB-BCCDE43F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5AFD-2C78-4AFD-A719-4E6DBC5C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26BF-1197-4C45-8B46-B0E09F80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D9F4-5616-4CF4-B722-887FC720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C5F9B-4AA5-4136-A519-A25E87CD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367C0-54E4-4B8D-901E-35D0E5C5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6CB66-5B55-4CF1-BA39-AC4F03C3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8C8B8-6310-42EE-9254-9681F597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4529-B205-40FA-BCB3-9307E5FE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897A-6C04-4F52-A4FD-3F83AFD8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EAAEB-5C04-4F52-A4A9-5C1A15A9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04B4-1462-423A-8261-5A36CA4051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0E75-5067-438B-B46F-3C90ED1C85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zakladatelsk&#225;%20smlouva.pdf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&#345;ehled%20VH_nejd&#367;le&#382;it&#283;j&#353;&#237;%20ud&#225;losti.doc" TargetMode="Externa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Asociace průmyslových škol České republiky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hačo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– 7. října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roslav Pon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Z historie Asociace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Zakladatelská listin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Kop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Valné hromady a nejdůležitější událost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Jak dál s Asociací?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755640" y="4149720"/>
            <a:ext cx="7862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ZESHA - Unie školských asociací ČR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0099ff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2411280" y="981000"/>
            <a:ext cx="4032360" cy="2244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1881360" y="63360"/>
            <a:ext cx="5381280" cy="67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256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5" name=""/>
          <p:cNvGraphicFramePr/>
          <p:nvPr/>
        </p:nvGraphicFramePr>
        <p:xfrm>
          <a:off x="179280" y="620640"/>
          <a:ext cx="8964720" cy="596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20640"/>
                    <a:ext cx="8964720" cy="59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9:51:03Z</dcterms:created>
  <dc:creator>ponec</dc:creator>
  <dc:description/>
  <dc:language>en-US</dc:language>
  <cp:lastModifiedBy>sumbal</cp:lastModifiedBy>
  <dcterms:modified xsi:type="dcterms:W3CDTF">2010-10-05T09:41:44Z</dcterms:modified>
  <cp:revision>5</cp:revision>
  <dc:subject/>
  <dc:title>Asociace průmyslových škol České republiky</dc:title>
</cp:coreProperties>
</file>