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172-0EB8-4746-A016-A778C5E6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C66-E313-439C-81F9-273F2B77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E70-FFFB-4AC9-B719-040D985C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DD0-5C51-4510-9A05-45C16B45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1D17-E4B1-4C44-8DD9-75DAA7F8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4780-7C97-48B3-AC4C-F48CF461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3E98-33ED-4534-9120-6EB18B8F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1BE9-3D45-46AD-BB8E-B3286BAD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E14A-1AEE-4910-90C4-D872CD43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DABE-F4B3-4855-8B69-678385D0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9458-05BD-498F-A8DC-DCD08E98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48D1-E551-4198-8856-1A45D7EE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B1F4-DE0E-4522-90B8-422E6DBD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31D7-7BF7-4890-B2FB-C69FF104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B38F-4B58-43E3-A466-23866106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C958-62A5-4249-83BA-27893F1C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C835-F9D0-46EB-B2A2-D1867CEF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389-F709-406D-B8ED-AE66AF72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271-7E02-43E5-8BE0-19037040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DC7-309F-4F91-8EA1-308EDAAA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FD2-C7B9-401A-8218-F1B1038E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8B6-C942-46BD-972C-5D233DAA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CA8-B6AB-493E-95BA-A396B4CA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725-5658-4D0A-BA88-D62D0CDC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4A08-34BB-4D17-9E16-F197A748A8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3611-3F41-4326-B784-97DC72B89B7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Ak&#269;ni%20pl&#225;n.doc" TargetMode="External"/><Relationship Id="rId2" Type="http://schemas.openxmlformats.org/officeDocument/2006/relationships/hyperlink" Target="file:///P&#345;&#237;lohy%201%20-%207.doc" TargetMode="External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Implementa&#269;n&#237;%20pl&#225;n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Spole&#269;n&#233;%20stanovisko.pdf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Odvol&#225;v&#225;n&#237;%20&#345;editel&#367;.doc" TargetMode="Externa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rohl&#225;&#353;en&#237;%20%20CZESHA%20k%20novele%20%20p&#345;ij&#237;mac&#237;ho%20&#345;&#237;zen&#237;.doc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Odborné školství</a:t>
            </a:r>
            <a:br>
              <a:rPr sz="66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radice a aktuální problém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kční plán podpory odborného školstv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Dokument tripart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řílo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eloživotní vzdělá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Implementační pl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yšší odborné školy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echnická lyce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incipy financo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é principy financov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Mzdy a ONIV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Financování ze státního rozpočtu</a:t>
            </a: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ozpis provádějí kraje v přenesené působnosti, upraven vyhláškou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Provozní prostřed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Z prostředků kraje, v plné kompetenci kraje na základě rozpočtového určení daní (RUD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Výhody a nevýhody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ento systém odpovídá současnému modelu řízení školství. Jeho určitou nevýhodou je stále příliš vysoké přerozdělování na úrovni krajů, které je někdy ve prospěch, někde v neprospěch odborného školství. Oslabuje se tím princip oborových normativ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Alternativní možnost: Agregované normativy podle věkových kohort nahradit normativy podle skupin příbuzných obor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Veškeré prostředky pro školství převést do RUD krajů (!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tráta srovnatelného financování na oborovém principu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hloubení rozdílů mezi jednotlivými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ávislost na úrovni výběru daní stanovených RU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přestávají být přímou součástí státního rozpočtu a předmětem kolektivního vyjednávání na úrovni centr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entrum má rozhodovat o legislativních a koncepčních otázkách, aniž má odpovědnost a nástroje k finančnímu zajištění těchto rozhodnutí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nejsou nijak účelově vázány a tudíž pod tlakem dalších priorit v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 -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pokračování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Do RUD krajů převést prostředky pro nepedagogické pracovníky(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ddělení nepedagogických pracovníků z hlediska limitu jejich počtu i mzdových prostředků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pedagogičtí pracovníci nejsou jenom provozními pracovníky, ale mají bezprostřední součinnost i ve vzdělávací oblast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ICT pracovníci a provoz učeben výpočetní techni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sekretariátů a informačních cent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knihoven atd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atut škol a postavení ředitelů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Návrh nov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átní maturit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ostavení odborného školství v našem vzdělávacím systému a změny v posledních letec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á situ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Ke státní maturitě v současném modelu má A SPŠ i CZESHA zásadní výhrady. Vzhledem k tomu, že státní maturita je ve školském zákoně uvedena již mnoho let, je jedinou možností státní maturitu realizovat nebo definitivně zrušit</a:t>
            </a: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Rizika a výhrady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Současný model nerespektuje diverzitu a tradice českého středního školství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Neúnosná administrativní, organizační a finanční náročnost celého procesu, která ovšem s přijatým modelem souvisí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Dvouúrovňová státní maturita na volitelném principu úrovní neodpovídá struktuře a ambicím jednotlivých vzdělávacích program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Časový posun v zavedení státní maturity zpochybňuje její význam,zvláště vzhledem k masovosti maturitních oborů i vzhledem k masovému přijímání na vysoké školy, jejichž kapacita je vyšší než kapacita maturitních ročník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Zásadní termínové problémy při ukončování studia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Náš názor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V celém obludném systému se ztrácí hlavní (a možná jediný) smysl státní maturity, který jsme ochotni podpořit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Stanovit rozumné standardy výstupů ze středních škol především v oblasti všeobecně vzdělávacích předmětů a podpořit je kvalitním testovým materiálem. Stanovit moderní a obhajitelnou metodiku zkoušek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Veškerou organizaci i hodnocení státní maturity ponechat na školách!!! Regulérnost zajistit supervizí komisařem a předsedou maturitní komise</a:t>
            </a:r>
            <a:r>
              <a:rPr b="1" lang="cs-CZ" sz="1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ffffff"/>
                </a:solidFill>
                <a:latin typeface="Verdana"/>
              </a:rPr>
              <a:t>(přece </a:t>
            </a:r>
            <a:r>
              <a:rPr b="1" lang="cs-CZ" sz="1000" spc="-1" strike="noStrike">
                <a:solidFill>
                  <a:srgbClr val="ffffff"/>
                </a:solidFill>
                <a:latin typeface="Verdana"/>
              </a:rPr>
              <a:t>nic nového pod sluncem !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estování žáků základních škol a přijímací řízení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8775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76320" y="38160"/>
            <a:ext cx="9296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76320" y="-61920"/>
            <a:ext cx="929664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23880" y="1014480"/>
            <a:ext cx="78962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23760" y="861840"/>
            <a:ext cx="919152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890640"/>
            <a:ext cx="78105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7120" y="824040"/>
            <a:ext cx="842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33:43Z</dcterms:created>
  <dc:creator>ponec</dc:creator>
  <dc:description/>
  <dc:language>en-US</dc:language>
  <cp:lastModifiedBy>ponec</cp:lastModifiedBy>
  <dcterms:modified xsi:type="dcterms:W3CDTF">2010-10-05T09:58:31Z</dcterms:modified>
  <cp:revision>18</cp:revision>
  <dc:subject/>
  <dc:title>Odborné školství tradice a aktuální problémy</dc:title>
</cp:coreProperties>
</file>