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C374-57A0-4A0E-8FA3-80240009E62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NIV2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B4CE-C1B2-44C0-ACA8-18A9F52B3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5640" y="314208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01B1-9625-480F-A58B-96AE8AF9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3632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0A20-870D-4B15-8D92-9EC9DD468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2032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8536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564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2032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8536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7C39-EF42-44E2-8367-C14A17E84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55640" y="2971800"/>
            <a:ext cx="6402240" cy="3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640224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92280" y="2171880"/>
            <a:ext cx="1627344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5640" y="2971800"/>
            <a:ext cx="6402240" cy="3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89C4-FB46-41BF-9812-A1282657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03632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55640" y="314208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03632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92032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8536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5564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292032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08536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640224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926D-D764-448D-839F-C1A379C4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B993-A4C0-48E0-94E1-A66D3B16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425A-2CF6-432D-91D3-42F969BB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92280" y="2171880"/>
            <a:ext cx="1627344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0151-2753-4D90-AB0C-082CDA4D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30DF-A1CB-4894-A234-468D44CA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3632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3F33-A38E-44FC-9C90-12D71756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F304-AD38-457A-9A77-C3554A54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5920" y="115560"/>
            <a:ext cx="870408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5920" y="1339560"/>
            <a:ext cx="85579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4" marL="2055960" indent="-227160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5" marL="2055960" indent="-2271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6" marL="2055960" indent="-2271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007720" y="6563880"/>
            <a:ext cx="2133720" cy="1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120" y="6563880"/>
            <a:ext cx="1865160" cy="1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11840" y="6563880"/>
            <a:ext cx="420840" cy="1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CA50-DC5F-4FFB-A759-7FCFCFF16D07}" type="slidenum">
              <a:rPr b="0" lang="en-US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14245"/>
                </a:solidFill>
                <a:latin typeface="Arial"/>
              </a:rPr>
              <a:t>Click to edit the outline text format</a:t>
            </a: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14245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14245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14245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14245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jitka.pohankova@nuov.cz" TargetMode="External"/><Relationship Id="rId3" Type="http://schemas.openxmlformats.org/officeDocument/2006/relationships/hyperlink" Target="http://www.nuov.cz/" TargetMode="External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nfoabsolvent.cz/" TargetMode="External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880240" y="2108160"/>
            <a:ext cx="3263760" cy="4749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776680" y="1700280"/>
            <a:ext cx="6116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16000" y="1989000"/>
            <a:ext cx="540072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0000"/>
                </a:solidFill>
                <a:latin typeface="Arial"/>
              </a:rPr>
              <a:t>Národní ústav odborného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Aktuální úkoly v příštím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66"/>
                </a:solidFill>
                <a:latin typeface="Arial"/>
              </a:rPr>
              <a:t>Jitka Pohank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Celostátní seminář ředitelů středních průmyslových šk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Špindlerův Mlýn, 6. – 8. 10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…</a:t>
            </a: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další činnosti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6666"/>
                </a:solidFill>
                <a:latin typeface="Arial"/>
              </a:rPr>
              <a:t>Mezinárodní spolupráce, aktivity vyplývající z členství ČR v EU –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RefeNet, TTnet, aktivity OECD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Koordinační centrum EQF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Národní síť pro podporu rozvoje OV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Národní centrum Europass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Implementace ECVET (společné LdV projekty)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Implementace EQARF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6666"/>
                </a:solidFill>
                <a:latin typeface="Arial"/>
              </a:rPr>
              <a:t>Aktivity související s členstvím ČR v EU</a:t>
            </a:r>
            <a:endParaRPr b="1" lang="en-US" sz="22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Kontakty se zahraničními institucemi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Informace o zapojení do mezinárodních projektů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Podíl na činnosti centrálních evropských výborů a organizací (Cedefop, ETF, DG VET) 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Pro koho a s kým spolupracujeme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245"/>
                </a:solidFill>
                <a:latin typeface="Arial"/>
              </a:rPr>
              <a:t>MŠMT, další OPŘO, ČŠI, další ministerstva, kraje, zaměstnavatelé (svazy, HK, asociace, cechy,…),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školy</a:t>
            </a:r>
            <a:r>
              <a:rPr b="0" lang="en-US" sz="2400" spc="-1" strike="noStrike">
                <a:solidFill>
                  <a:srgbClr val="014245"/>
                </a:solidFill>
                <a:latin typeface="Arial"/>
              </a:rPr>
              <a:t>, veřejnost, zahraniční partneři</a:t>
            </a:r>
            <a:endParaRPr b="1" lang="en-US" sz="24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4245"/>
                </a:solidFill>
                <a:latin typeface="Arial"/>
              </a:rPr>
              <a:t>Děkuji za pozornost.</a:t>
            </a:r>
            <a:endParaRPr b="1" lang="en-US" sz="2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Jitka Pohanková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itka.pohankova@nuov.cz</a:t>
            </a:r>
            <a:r>
              <a:rPr b="0" lang="en-US" sz="1800" spc="-1" strike="noStrike" u="sng">
                <a:solidFill>
                  <a:srgbClr val="014245"/>
                </a:solidFill>
                <a:uFillTx/>
                <a:latin typeface="Arial"/>
              </a:rPr>
              <a:t> 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nuov.cz</a:t>
            </a:r>
            <a:r>
              <a:rPr b="0" lang="en-US" sz="1800" spc="-1" strike="noStrike" u="sng">
                <a:solidFill>
                  <a:srgbClr val="014245"/>
                </a:solidFill>
                <a:uFillTx/>
                <a:latin typeface="Arial"/>
              </a:rPr>
              <a:t> 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492120"/>
            <a:ext cx="815976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800000"/>
                </a:solidFill>
                <a:latin typeface="Arial Unicode MS"/>
              </a:rPr>
              <a:t>Hlavní oblasti činnosti</a:t>
            </a:r>
            <a:r>
              <a:rPr b="0" lang="cs-CZ" sz="2000" spc="-1" strike="noStrike">
                <a:solidFill>
                  <a:srgbClr val="800000"/>
                </a:solidFill>
                <a:latin typeface="Arial Unicode MS"/>
              </a:rPr>
              <a:t> 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5920" y="1339560"/>
            <a:ext cx="85579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Kurikulum - cíle a obsah odborného vzděláván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Další vzdělávání pedagogických pracovníků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Kvalifikace – vedení a rozvoj Národní soustavy kvalifikac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Sociální partnerstv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Uznávání výsledků neformálního vzdělávání a informálního učen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Koncepce dalšího vzděláván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Celoživotní kariérové poradenstv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Analýzy trhu práce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Mezinárodní spolupráce, aktivity vyplývající z členství v EU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34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Jiné aktivity</a:t>
            </a:r>
            <a:r>
              <a:rPr b="0" lang="cs-CZ" sz="2400" spc="-1" strike="noStrike">
                <a:solidFill>
                  <a:srgbClr val="006666"/>
                </a:solidFill>
                <a:latin typeface="Arial"/>
              </a:rPr>
              <a:t> (</a:t>
            </a: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STU, bulletin Odborné vzdělávání, zpravodaj Odborné vzdělávání v zahraničí)</a:t>
            </a:r>
            <a:endParaRPr b="0" lang="en-US" sz="14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4245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30560" y="509760"/>
            <a:ext cx="691344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Kurikulum – cíle a obsah odborného vzdělávání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Tvorba RVP,  transformace soustavy oborů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 - (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H (</a:t>
            </a:r>
            <a:r>
              <a:rPr b="0" i="1" lang="cs-CZ" sz="1400" spc="-1" strike="noStrike">
                <a:solidFill>
                  <a:srgbClr val="014245"/>
                </a:solidFill>
                <a:latin typeface="Arial"/>
              </a:rPr>
              <a:t>215) 82,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E </a:t>
            </a:r>
            <a:r>
              <a:rPr b="0" i="1" lang="cs-CZ" sz="1400" spc="-1" strike="noStrike">
                <a:solidFill>
                  <a:srgbClr val="014245"/>
                </a:solidFill>
                <a:latin typeface="Arial"/>
              </a:rPr>
              <a:t>(104) 36, 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J </a:t>
            </a:r>
            <a:r>
              <a:rPr b="0" i="1" lang="cs-CZ" sz="1400" spc="-1" strike="noStrike">
                <a:solidFill>
                  <a:srgbClr val="014245"/>
                </a:solidFill>
                <a:latin typeface="Arial"/>
              </a:rPr>
              <a:t>(20) 5,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 M, L/0 </a:t>
            </a:r>
            <a:r>
              <a:rPr b="0" i="1" lang="cs-CZ" sz="1400" spc="-1" strike="noStrike">
                <a:solidFill>
                  <a:srgbClr val="014245"/>
                </a:solidFill>
                <a:latin typeface="Arial"/>
              </a:rPr>
              <a:t>(391) 110,  L/5  (93) 33)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Vývoj kurikula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– činnosti a postupy pro monitorování RVP – zadání pro výzkumná šetření (MŠMT, OPŘO, </a:t>
            </a:r>
            <a:r>
              <a:rPr b="1" lang="cs-CZ" sz="1400" spc="-1" strike="noStrike">
                <a:solidFill>
                  <a:srgbClr val="014245"/>
                </a:solidFill>
                <a:latin typeface="Arial"/>
              </a:rPr>
              <a:t>oborové skupiny)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Modernizace vzdělávání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– CEFIF, finanční gramotnost, EVVO a VUR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Podpora vzdělávání a profesního uplatnění žáků s SPV; péče o nadané žáky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– spolupráce s IPPP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Úkoly v kmenové činnosti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IPn projekty: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Kurikulum S,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Metodika II 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Kvalita odborného vzdělávání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Podpora zajišťování kvality odborného vzdělávání</a:t>
            </a: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úkoly kmenové činnosti:  reflexe evropského vývoje, Doporučení Rady EU k implementaci Evropského rámce pro zajišťování kvality (EQARF)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IPn projekty: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NZZ, Cesta ke kvalitě, Kurikulum S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(standardizace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profilové části MZ)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30560" y="509760"/>
            <a:ext cx="691344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Další vzdělávání pedagogických pracovníků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326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14245"/>
                </a:solidFill>
                <a:latin typeface="Arial"/>
              </a:rPr>
              <a:t>DV PP v rámci počátečního odborného vzdělávání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– </a:t>
            </a:r>
            <a:r>
              <a:rPr b="0" lang="cs-CZ" sz="1300" spc="-1" strike="noStrike">
                <a:solidFill>
                  <a:srgbClr val="014245"/>
                </a:solidFill>
                <a:latin typeface="Arial"/>
              </a:rPr>
              <a:t>průzkum potřeb a projektování ŠVP ve vazbě na RVP a NSK, didaktické aspekty realizace výuky</a:t>
            </a:r>
            <a:endParaRPr b="1" lang="en-US" sz="1300" spc="-1" strike="noStrike">
              <a:solidFill>
                <a:srgbClr val="01424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14245"/>
                </a:solidFill>
                <a:latin typeface="Arial"/>
              </a:rPr>
              <a:t>DV PP v souvislosti s realizací dalšího odborného vzdělávání na školách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1300" spc="-1" strike="noStrike">
                <a:solidFill>
                  <a:srgbClr val="014245"/>
                </a:solidFill>
                <a:latin typeface="Arial"/>
              </a:rPr>
              <a:t>– průzkumy potřeb, projektování programů DV, realizace DV, celoživotní kariérové poradenství</a:t>
            </a:r>
            <a:endParaRPr b="1" lang="en-US" sz="1300" spc="-1" strike="noStrike">
              <a:solidFill>
                <a:srgbClr val="01424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14245"/>
                </a:solidFill>
                <a:latin typeface="Arial"/>
              </a:rPr>
              <a:t>DV PP v souvislosti s realizací zájmového popř. občanského vzdělávání na školách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- </a:t>
            </a:r>
            <a:r>
              <a:rPr b="0" lang="cs-CZ" sz="1300" spc="-1" strike="noStrike">
                <a:solidFill>
                  <a:srgbClr val="014245"/>
                </a:solidFill>
                <a:latin typeface="Arial"/>
              </a:rPr>
              <a:t>průzkumy potřeb, projektování programů DV, realizace DV</a:t>
            </a:r>
            <a:endParaRPr b="1" lang="en-US" sz="1300" spc="-1" strike="noStrike">
              <a:solidFill>
                <a:srgbClr val="01424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14245"/>
                </a:solidFill>
                <a:latin typeface="Arial"/>
              </a:rPr>
              <a:t>DV PP  v souvislosti s realizací uznávání výsledků předchozího učení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–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metodické sjednocování postupů,poradenské a podpůrné aktivity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úkoly kmenové činnosti: 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IPn projekty: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Kurikulum S, Metodika II,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UNIV 2,  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   Koncept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Kvalifikace – vedení a rozvoj NSK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vedení NSK –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úkol ze zákona č. 179/2006; implementace strategie celoživotního učení; aktivity s mezinárodním kontextem reagují na potřeby reakce české kvalifikační soustavy na předpokládané zavádění ECVET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IPn projekty:</a:t>
            </a:r>
            <a:r>
              <a:rPr b="0" lang="cs-CZ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800000"/>
                </a:solidFill>
                <a:latin typeface="Arial"/>
              </a:rPr>
              <a:t>NSK2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800000"/>
                </a:solidFill>
                <a:latin typeface="Arial"/>
              </a:rPr>
              <a:t>–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 Rozvoj a implementace Národní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soustavy kvalifikací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   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Koncept –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návrh systémových  mechanismů pro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oblast DV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   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800000"/>
                </a:solidFill>
                <a:latin typeface="Arial"/>
              </a:rPr>
              <a:t>UNIV 2 –</a:t>
            </a:r>
            <a:r>
              <a:rPr b="0" lang="cs-CZ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proměna škol v centra celoživotního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učení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Sociální partnerství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09520" indent="-20952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Podpora partnerství škol a zaměstnavatelů</a:t>
            </a:r>
            <a:r>
              <a:rPr b="1" lang="cs-CZ" sz="2000" spc="-1" strike="noStrike">
                <a:solidFill>
                  <a:srgbClr val="006666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66"/>
                </a:solidFill>
                <a:latin typeface="Arial"/>
              </a:rPr>
              <a:t>Řízení a koordinace činnosti oborových skupin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koncepční skupina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odborné skupiny, Národní síť pro podporu zajišťování kvality odborného vzdělávání, poradní skupina - součást Koordinačního centra EQF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oborové skupiny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pracovní skupiny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marL="209520" indent="-209520">
              <a:spcBef>
                <a:spcPts val="34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Metodická a informační podpora sektorovým radám –   </a:t>
            </a:r>
            <a:r>
              <a:rPr b="0" lang="cs-CZ" sz="1400" spc="-1" strike="noStrike">
                <a:solidFill>
                  <a:srgbClr val="800000"/>
                </a:solidFill>
                <a:latin typeface="Arial"/>
              </a:rPr>
              <a:t>IPn NSK2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marL="209520" indent="-20952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Mezinárodní spolupráce – EQF, ECVET, EQARF</a:t>
            </a: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marL="209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marL="209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marL="209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marL="209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marL="209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30560" y="509760"/>
            <a:ext cx="691344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Uznávání výsledků neformálního vzdělávání a informálního učení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proces uznávání výsledků předchozího učení – </a:t>
            </a:r>
            <a:r>
              <a:rPr b="0" lang="cs-CZ" sz="1600" spc="-1" strike="noStrike">
                <a:solidFill>
                  <a:srgbClr val="006666"/>
                </a:solidFill>
                <a:latin typeface="Arial"/>
              </a:rPr>
              <a:t>identifikuje, dokumentuje, hodnotí a uznává kompetence jednotlivce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úkoly v kmenové činnosti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IPn: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NSK2</a:t>
            </a: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(standardy – kvalita a validita celého procesu)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UNIV 2</a:t>
            </a:r>
            <a:r>
              <a:rPr b="1" lang="cs-CZ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(centra CŽU – proces uznávání</a:t>
            </a:r>
            <a:r>
              <a:rPr b="1" lang="cs-CZ" sz="18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Koncept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(stimulace poptávky jednotlivců i podniků   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    po DV, uznávání výsledků DV ve vazbě na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    NSK a UNIV,…)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…</a:t>
            </a: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další činnosti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Koncepce dalšího vzdělávání – </a:t>
            </a:r>
            <a:r>
              <a:rPr b="0" lang="cs-CZ" sz="1600" spc="-1" strike="noStrike">
                <a:solidFill>
                  <a:srgbClr val="006666"/>
                </a:solidFill>
                <a:latin typeface="Arial"/>
              </a:rPr>
              <a:t>systémové prostředí pro oblast DV (Implementace strategie celoživotního učení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Celoživotní kariérové poradenství – </a:t>
            </a:r>
            <a:r>
              <a:rPr b="0" lang="cs-CZ" sz="1600" spc="-1" strike="noStrike">
                <a:solidFill>
                  <a:srgbClr val="006666"/>
                </a:solidFill>
                <a:latin typeface="Arial"/>
              </a:rPr>
              <a:t>integrovaný systém kariérového poradenství,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nfoabsolvent.cz</a:t>
            </a:r>
            <a:r>
              <a:rPr b="0" lang="cs-CZ" sz="1600" spc="-1" strike="noStrike">
                <a:solidFill>
                  <a:srgbClr val="006666"/>
                </a:solidFill>
                <a:latin typeface="Arial"/>
              </a:rPr>
              <a:t> (propojuje informace o školách a oborech vzdělánís poznatky o uplatnění absolventů na trhu práce a o potřebách zaměstnavatelů), Centrum kariérového poradenství </a:t>
            </a: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(IPn </a:t>
            </a:r>
            <a:r>
              <a:rPr b="0" lang="cs-CZ" sz="1400" spc="-1" strike="noStrike">
                <a:solidFill>
                  <a:srgbClr val="800000"/>
                </a:solidFill>
                <a:latin typeface="Arial"/>
              </a:rPr>
              <a:t>VIP Kariéra II )</a:t>
            </a: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Analýzy trhu práce – </a:t>
            </a: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vývoj ekonomiky, technologií, a kvalifikačních požadavků profesí, analýzy vývoje zaměstnanosti a nezaměstnanosti, stav a vývoj nabídky pracovních příležitostí, vývoj počtu žáků škol podle oborové struktury a vzdělanostní úrovně, přechod absolventů na trh práce a do terciáru, postavení absolventů škol na trhu práce, analýzy stavu a vývoje nezaměstnanosti a absolventů škol, analýzy příčin předčasných odchodů ze vzdělávání 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8:40:17Z</dcterms:created>
  <dc:creator>kasparov</dc:creator>
  <dc:description/>
  <dc:language>en-US</dc:language>
  <cp:lastModifiedBy>Jitka Pohanková</cp:lastModifiedBy>
  <dcterms:modified xsi:type="dcterms:W3CDTF">2009-10-07T05:59:59Z</dcterms:modified>
  <cp:revision>110</cp:revision>
  <dc:subject/>
  <dc:title>KURIKULUM S</dc:title>
</cp:coreProperties>
</file>